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8ADD-E601-4482-9D85-A37B6D19F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FD90-9B6C-4299-BC31-7685D89C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EF09-0588-420B-B8FF-F18693341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74EB-2342-49F3-B02E-DB0EA0B79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8EF8-BC26-43FB-816E-8B2DCA3B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0E45-E9B8-491B-8268-D16A1951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2CE6-16F8-4113-BEE2-842009A0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140A-C39E-4102-87E5-5716BCDE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02E9-F508-4BA6-8694-2203AA9D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E4FD-1451-41B7-BCB3-C910A7AD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81B1-D9F6-4FA9-A01A-431C3315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9541-DA47-4CDC-BD7D-6618AFB6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0DC1-B4D7-4E94-AF59-470FADE9D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тицање знања, вештина и компетенција пр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сионалаца за рад са младим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з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у петофазног процесног модела професионалне оријентације и стварање системске мреже подршке у области професионалне оријент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6516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447920"/>
            <a:ext cx="86104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пшти циљ програма базичне об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3880" y="1143000"/>
            <a:ext cx="69613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286000"/>
            <a:ext cx="853416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напређивање знања, вештина и компетенција професионалаца 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имену модела П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оз модуле: самоспознаја, информисање о занимањима, каријери и путевима образовања, реални сусрети са светом рада и доношење одлуке о школи и занимањ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ршку у остваривању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ал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х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сре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са партнерима у области ПО: средње школе;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калне канцеларије за младе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ционална служба за запошљавање; привре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д са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одитељ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а на пружању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дрш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еци у  процесу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есионалног информисања и саветовања  до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оношењ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одлуке о избору школе и занимањ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оцесно оријентисано индивидуално праћење младих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области професионалне оријентациј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режавање професионалац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институција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 ширење идеје о процесном петофазном моделу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есионалне оријентације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990720"/>
            <a:ext cx="88390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Специфични циљеви базичне обу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у у средњу шко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MP</cp:lastModifiedBy>
  <dcterms:modified xsi:type="dcterms:W3CDTF">2012-02-04T13:21:13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